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9E0-3BF6-4CFA-A220-563804F3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E1F-CF03-4E74-8286-531E69D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D0E-13F6-4A1A-B7BC-1974EBB0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E44-5EC3-4A9B-A51B-37B0768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D17-C3DF-4E5B-BCFF-60B10D6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7E4-30CA-416D-9E0F-CE221C8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6F7-58A6-45B0-A802-7158162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9E8-6C3C-4C2E-9CAB-B08F5CFC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3BB-CF84-4E91-BDC0-44F07644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931-0167-43FE-9273-1BA6302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EAA-A4BA-44D8-982F-DF36A08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051-22E9-477F-AC91-6E7CC39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D622-DF35-4764-ABF6-068E521BA2D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vida\Documents\fulley nanos-papi\articulo-fullcis\todo-c60.tif"/>
          <p:cNvPicPr/>
          <p:nvPr/>
        </p:nvPicPr>
        <p:blipFill>
          <a:blip r:embed="rId1"/>
          <a:stretch/>
        </p:blipFill>
        <p:spPr>
          <a:xfrm>
            <a:off x="142920" y="857160"/>
            <a:ext cx="6784920" cy="520236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928800" y="357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nglet States by CNDOL / 21 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vida\Documents\fulley nanos-papi\articulo-fullcis\c60n\c60.tif"/>
          <p:cNvPicPr/>
          <p:nvPr/>
        </p:nvPicPr>
        <p:blipFill>
          <a:blip r:embed="rId2"/>
          <a:srcRect l="12246" t="5476" r="9486" b="7007"/>
          <a:stretch/>
        </p:blipFill>
        <p:spPr>
          <a:xfrm>
            <a:off x="6643800" y="14292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7 CuadroTexto"/>
          <p:cNvSpPr/>
          <p:nvPr/>
        </p:nvSpPr>
        <p:spPr>
          <a:xfrm>
            <a:off x="357120" y="624852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number of mono-excited configuration functions, taking into account in the CNDOL-CIS procedur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vida\Documents\fulley nanos-papi\articulo-fullcis\todo.tif"/>
          <p:cNvPicPr/>
          <p:nvPr/>
        </p:nvPicPr>
        <p:blipFill>
          <a:blip r:embed="rId1"/>
          <a:stretch/>
        </p:blipFill>
        <p:spPr>
          <a:xfrm>
            <a:off x="642960" y="214200"/>
            <a:ext cx="6784920" cy="635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vida\Documents\fulley nanos-papi\articulo-fullcis\c60n\c60.tif"/>
          <p:cNvPicPr/>
          <p:nvPr/>
        </p:nvPicPr>
        <p:blipFill>
          <a:blip r:embed="rId2"/>
          <a:stretch/>
        </p:blipFill>
        <p:spPr>
          <a:xfrm>
            <a:off x="7211880" y="4834080"/>
            <a:ext cx="835200" cy="74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vida\Documents\fulley nanos-papi\articulo-fullcis\c60n\c12.tif"/>
          <p:cNvPicPr/>
          <p:nvPr/>
        </p:nvPicPr>
        <p:blipFill>
          <a:blip r:embed="rId3"/>
          <a:stretch/>
        </p:blipFill>
        <p:spPr>
          <a:xfrm>
            <a:off x="7169040" y="3700440"/>
            <a:ext cx="130500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vida\Documents\fulley nanos-papi\articulo-fullcis\c60n\c77.tif"/>
          <p:cNvPicPr/>
          <p:nvPr/>
        </p:nvPicPr>
        <p:blipFill>
          <a:blip r:embed="rId4"/>
          <a:stretch/>
        </p:blipFill>
        <p:spPr>
          <a:xfrm>
            <a:off x="7102440" y="2475000"/>
            <a:ext cx="151776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vida\Documents\fulley nanos-papi\articulo-fullcis\c60n\c99.tif"/>
          <p:cNvPicPr/>
          <p:nvPr/>
        </p:nvPicPr>
        <p:blipFill>
          <a:blip r:embed="rId5"/>
          <a:stretch/>
        </p:blipFill>
        <p:spPr>
          <a:xfrm>
            <a:off x="7029360" y="1189080"/>
            <a:ext cx="1590840" cy="144468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7143840" y="785880"/>
            <a:ext cx="571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0:35:57Z</dcterms:created>
  <dc:creator>Ana Lilian Montero Alejo</dc:creator>
  <dc:description/>
  <dc:language>en-US</dc:language>
  <cp:lastModifiedBy>Ana Lilian Montero Alejo</cp:lastModifiedBy>
  <dcterms:modified xsi:type="dcterms:W3CDTF">2009-11-18T22:14:59Z</dcterms:modified>
  <cp:revision>11</cp:revision>
  <dc:subject/>
  <dc:title>Diapositiva 1</dc:title>
</cp:coreProperties>
</file>