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B95-A40E-482C-B8A6-DABD1B4C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4CA-1E21-4014-891E-E63716BC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A43-70E7-474D-BD3A-F3C7E906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A48-8C8E-4B08-87C7-5AE97737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913-7733-4665-B18F-7DDEA930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7E8-576A-43BA-AC8B-7886F4B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A47-1FFC-40FF-8867-AB9DD132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DEE-5EA9-4B3A-AE75-557F9ED3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A2F-A734-4A18-A73D-DBB3DE3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291-C838-45E6-B78C-D19108C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F3E-5BD2-4476-8951-7AB9639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B3A-0A4A-47EC-B096-281F528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B49-35DF-4411-B9BF-2A96CAD26A6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vida\Documents\fulley nanos-papi\articulo-fullcis\todo-c60.tif"/>
          <p:cNvPicPr/>
          <p:nvPr/>
        </p:nvPicPr>
        <p:blipFill>
          <a:blip r:embed="rId1"/>
          <a:stretch/>
        </p:blipFill>
        <p:spPr>
          <a:xfrm>
            <a:off x="142920" y="857160"/>
            <a:ext cx="6784920" cy="520236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928800" y="357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nglet States by CNDOL / 21 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vida\Documents\fulley nanos-papi\articulo-fullcis\c60n\c60.tif"/>
          <p:cNvPicPr/>
          <p:nvPr/>
        </p:nvPicPr>
        <p:blipFill>
          <a:blip r:embed="rId2"/>
          <a:srcRect l="12246" t="5476" r="9486" b="7007"/>
          <a:stretch/>
        </p:blipFill>
        <p:spPr>
          <a:xfrm>
            <a:off x="6643800" y="14292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7 CuadroTexto"/>
          <p:cNvSpPr/>
          <p:nvPr/>
        </p:nvSpPr>
        <p:spPr>
          <a:xfrm>
            <a:off x="357120" y="624852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number of mono-excited configuration functions, taking into account in the CNDOL-CIS procedur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vida\Documents\fulley nanos-papi\articulo-fullcis\todo.tif"/>
          <p:cNvPicPr/>
          <p:nvPr/>
        </p:nvPicPr>
        <p:blipFill>
          <a:blip r:embed="rId1"/>
          <a:stretch/>
        </p:blipFill>
        <p:spPr>
          <a:xfrm>
            <a:off x="642960" y="214200"/>
            <a:ext cx="6784920" cy="635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vida\Documents\fulley nanos-papi\articulo-fullcis\c60n\c60.tif"/>
          <p:cNvPicPr/>
          <p:nvPr/>
        </p:nvPicPr>
        <p:blipFill>
          <a:blip r:embed="rId2"/>
          <a:stretch/>
        </p:blipFill>
        <p:spPr>
          <a:xfrm>
            <a:off x="7211880" y="4834080"/>
            <a:ext cx="835200" cy="74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vida\Documents\fulley nanos-papi\articulo-fullcis\c60n\c12.tif"/>
          <p:cNvPicPr/>
          <p:nvPr/>
        </p:nvPicPr>
        <p:blipFill>
          <a:blip r:embed="rId3"/>
          <a:stretch/>
        </p:blipFill>
        <p:spPr>
          <a:xfrm>
            <a:off x="7169040" y="3700440"/>
            <a:ext cx="13050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vida\Documents\fulley nanos-papi\articulo-fullcis\c60n\c77.tif"/>
          <p:cNvPicPr/>
          <p:nvPr/>
        </p:nvPicPr>
        <p:blipFill>
          <a:blip r:embed="rId4"/>
          <a:stretch/>
        </p:blipFill>
        <p:spPr>
          <a:xfrm>
            <a:off x="7102440" y="2475000"/>
            <a:ext cx="151776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vida\Documents\fulley nanos-papi\articulo-fullcis\c60n\c99.tif"/>
          <p:cNvPicPr/>
          <p:nvPr/>
        </p:nvPicPr>
        <p:blipFill>
          <a:blip r:embed="rId5"/>
          <a:stretch/>
        </p:blipFill>
        <p:spPr>
          <a:xfrm>
            <a:off x="7029360" y="1189080"/>
            <a:ext cx="159084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7143840" y="785880"/>
            <a:ext cx="571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0:35:57Z</dcterms:created>
  <dc:creator>Ana Lilian Montero Alejo</dc:creator>
  <dc:description/>
  <dc:language>en-US</dc:language>
  <cp:lastModifiedBy>Ana Lilian Montero Alejo</cp:lastModifiedBy>
  <dcterms:modified xsi:type="dcterms:W3CDTF">2009-11-18T22:14:59Z</dcterms:modified>
  <cp:revision>11</cp:revision>
  <dc:subject/>
  <dc:title>Diapositiva 1</dc:title>
</cp:coreProperties>
</file>