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271-45C6-4CC4-8AB6-998CDB65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7DD-7D1B-4FCB-929D-C9140866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C4D-0A3D-45E5-95C9-C9FE0666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82D-D0D9-4B59-8062-DB4B0AA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F48-86B9-4043-B6E8-3289059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4DA-30BF-46F4-A128-C6FAA51E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846-4639-43D8-863B-CF064BC5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6F5-5751-45C9-B281-A01FBC1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A87-F2CF-40C0-99B6-F313D96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AEF-4BAD-4749-ACDD-F528A4C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B09-1916-431D-9695-DDAB963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77C-C69D-4CDD-94B7-B5DFE4A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78C-23D1-4EBE-A4AB-9772D05A6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15334" t="0" r="0" b="0"/>
          <a:stretch/>
        </p:blipFill>
        <p:spPr>
          <a:xfrm>
            <a:off x="0" y="838080"/>
            <a:ext cx="6854760" cy="709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69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cterización espectrofotométrica de nuevas estrellas simbióticas en el plano de la Vía Lác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8006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nesto R. Rodríguez Fl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de Geofísica y Astr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7:48:28Z</dcterms:created>
  <dc:creator>Ernesto R. Rodríguez Flores</dc:creator>
  <dc:description/>
  <dc:language>en-US</dc:language>
  <cp:lastModifiedBy>Ernesto R. Rodríguez Flores</cp:lastModifiedBy>
  <dcterms:modified xsi:type="dcterms:W3CDTF">2013-10-01T07:58:35Z</dcterms:modified>
  <cp:revision>3</cp:revision>
  <dc:subject/>
  <dc:title>Slide 1</dc:title>
</cp:coreProperties>
</file>